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BFD5-C53D-4166-BD60-1DF7A289B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1D88-1205-48E5-8B42-72BADD4C6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7A5E-1673-4905-A4AA-79998748E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F4D5-AE7A-45AF-B2E7-8EAC2B005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5AE2-118F-4558-BDDE-E08AB00A11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7B7B-8600-40EA-8592-057A18DF21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1422-F29C-470E-B18F-8A2C83CF1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2639-8501-4429-B304-0541EF9481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FCAF-8D77-4CC7-99D3-5956ECB03F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6626-BFCB-4B73-9AD0-91240108EF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7E07-28C0-4392-ADD4-333012CFE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6E43-DB84-47D8-A7D8-DB762EFBA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DFB5-A317-4EE7-B316-50CF58217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CB25-BBBC-4056-B878-59996A3EB0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112A-6414-4E56-AF87-0B06A28373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385E-7DA4-48DF-9366-85173BE338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E17F-35A5-48E4-87B1-6ED7CFC2F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5F77-4317-4123-868B-1E9688C44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BDEF-17B9-4230-8C91-AF53BD5C2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5D99-3C3D-4830-9CF5-D84583968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ECA5-0C9D-4BE6-B4EC-63F4FB8FA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8A86-E40E-4E78-87C7-654DABCF9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A595-59E4-4154-B26F-4C5D06934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9BCF-7DC9-41AF-8B6D-F2C6B1839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D0A-8ECD-4409-81F8-BBE894BB8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F8A-F488-4CFA-AC22-36FBA5FA0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lase i objekt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mplementacija i interfejs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procesir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kazivač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efere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 i funkcije člani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kazivač 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is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klopljen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line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Konstant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drazumijevani argu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t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struk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 kao arugmenti funkcij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tatički (dijeljeni) atrib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tatičke (dijeljene) met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ijatelji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BF94-09B7-47CD-997B-371385BFE8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tributima i metodama pristupa se preko operatora tačka (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iv metoda članica vrši se isključivo u kontekstu konkretnog objek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ziv nema smisla vršiti u kontekstu cijel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oziv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Print();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smisla i prevodilac bi prijavio greš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to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e naziv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u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em poru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u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 koji šalje poruku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poziva meto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-klij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bjek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ima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ruku (čiji se metod poziv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oje metode objek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zivat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tod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g objek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ACC5-CE6E-4F5E-914D-F734262F99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755640" y="-3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int coun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float x = 0.0, float y = 0.0) : x(x), y(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Point&amp; p) : x(p.x), y(p.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kopije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~Po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destruktor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</a:t>
            </a:r>
            <a:r>
              <a:rPr b="0" lang="sr-Latn-CS" sz="1500" spc="-1" strike="noStrike">
                <a:solidFill>
                  <a:srgbClr val="ff3300"/>
                </a:solidFill>
                <a:latin typeface="Courier New"/>
              </a:rPr>
              <a:t>int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getCount(){return count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AA66-B89C-4804-8685-6B839FA9721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7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Statičke (zajedničk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1 = new Point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1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2 = new Point(3.0, 4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2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3 = new Point(5.0, 6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3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2B60-A607-4C20-AC2A-D04C8577DDB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nekim slučajevima potrebno je da klasa ima “povlašćene” koristnike koji mogu da pristupaju privatnim i zaštićenim članicama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atelji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atelji klase mogu b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ateljstvo je relacija koja reguliše pravo pristu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t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nasl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simetr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elacij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tranzijent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rela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097F-3F4B-4D59-9388-95BDD9AA3DC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ke funkcije su funkcije koje nis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klase, ali imaj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ozvolj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tup do privatn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a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ke funkcije mogu da bud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ne funkcije i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drugih kl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je prijateljsk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se u definiciji klase navede deklaracija funkcije sa klju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 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avo pristupa sekciji klase (privatno, zaštišeno, javno) u kojoj se navod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a prijateljske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5592-13DC-458D-AAB1-6D1B290B4F8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a bude prijatelj v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broju klasa istovre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e narušava se princip enkapsul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ojektant klase sam određuje koje funkcije će biti prijateljs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zbjegava se “publikovanje” članova svim ostalim kla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lobalne prijateljske funkcije najčešće imaju jedan ili više argumenata koji su tipa t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ebne usluge koje su vezane za klasu, a ne za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godnije za korišt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funkcija treba da pristup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više klas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ikasnija je prijateljska globaln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preklapaju operatori,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je jednostavnije definisati globalne (operatorske) funkcije nego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FADC-2EF1-44C9-B607-AD874157B7D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(float r, float i) : re(r), im(i)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 int IsEqual(Complex* c1, Complex* c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BA01-0394-4266-8335-5D49A4D42E2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IsEqual(Complex* c1, Complex* c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c1-&gt;re == c2-&gt;im &amp;&amp; c1-&gt;im == c2-&gt;i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* c1 = new Complex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* c2 = new Complex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sEqual(c1, c2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1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2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546E-8A61-48A0-9218-F52CA6C98F0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1( B&amp; 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2( B&amp; 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_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 int A::Func1( B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::Func1( B&amp; b ) { return b._b; }   //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::Func2( B&amp; b ) { return b._b; }   //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Gre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7B25-6B79-495C-9F73-14EB901C081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su sv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teljske funkcije klas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da 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teljska klasa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klas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o koja 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pristup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m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aj princip se koristi kada dvije klase tijesno sarađu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Može se obezbijediti da samo 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reira objekte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iže se tako što se konstrukori klas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klarišu kao privatni, a zatim se klas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klariše kao prijateljska klas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F729-EF19-4DF2-8F9B-63C4B488DAF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int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int getCount(){return count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friend class Cir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1CD9-1188-4DD2-AE71-63BE3E2D705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ozvoljeno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 nizo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elj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rednosti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ednog objekta drug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im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e objekata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redno 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ima preko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osredno 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tributi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redno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istupanje atributi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ma preko pokazivač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ima nizova objekat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enošen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o argume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ija i to po vrednosti ili referen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e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kao argumenat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raćan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 funkcija po vrednosti ili referen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B5FC-5403-4882-A97C-AF4E90C42D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::Circle(Circle &amp;x) :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konstruktor kopije"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r = x.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 = new Po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-&gt;x = x.p-&gt;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-&gt;y = x.p-&gt;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1327-9122-44B5-9363-F2F6B010971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bra programerska praksa je da sve podaci članovi budu privat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me se izbjegava neželjeni pristup podac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stup podacima dozvoljen je jedino preko metoda član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435312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70BE-E133-432C-8131-0EE479ABE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varijabla se dovodi u nevalidno s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5542-0890-4CF0-A01B-DECF446B28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Hour(int 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h &gt; 23 || h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nvalid hour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ur = 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A93C-A431-4C54-A162-7414B66FA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e t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1.setHour(2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351640" cy="8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66A8-CF68-419B-98DB-71F9890BB6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a klasa ima implementaciju i interfe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ementaciju klase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i podaci članovi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fejs klase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 podaci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e preporučuje 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aksa se da implementacija i interfejs razdvoje u posebne fajl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toteka sa ekstenzijom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sadrži interfejs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toteka sa ekstenzijom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sadrži implementaciju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FA86-3666-452A-AB90-B086F80C2C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re;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//deklaracija podata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//zaglavlja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BB34-AB8C-4436-9098-C1AC0212F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#include 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Complex::setData(float r, floa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7EF5-164F-4EEA-A3F9-C47D023744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funkcije članice obično se nalazi u interfejsu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šti oblik 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 ime(lista_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povratn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m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identifikator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lista_arg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– lista formal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ista je odvojena zarez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klaracija argumenta ima oblik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 ime_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cija (implementacija) funkcije je zapravo deklaracija funkcije iza koje slijedi tijelo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četak i kraj tijela funkci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načava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vratna vrijednost funkcije jeste izraz naveden poslije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61A7-7E27-43A1-9908-7290258187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za klase i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ive preproces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či i re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enje pokazivač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lapanje imen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i destruktor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čki podaci članovi i statičk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19FD-DC38-4E50-9DED-D09ED7D79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definicije funkcije prije imena navodi se ime klase zajedno sa operatorom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 razrešavanja oblasti važe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lika razlika izmeđ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definiciju funk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z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cij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definiciju neke globalne funk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540F-0938-4227-9727-9CFA09CDD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eno iz programskog jezik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e samog prevođenja izvorni kod programa se najprije procesira posebnim programom za obradu tek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ogram se naziva preproce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laz u proces prepocerisanja jeste izvorni kod, a rezultat je takođe izvorni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cesor prevodiocu daje “očišćen” tekst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ansformaciju koje treba obaviti nad tekstom zadaju s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irektiv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pecijalne linije u programu koje počinju simbolom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B17D-3321-4C99-A659-F7ADF66EF1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fi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efinisanje simboličkih konst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pšti obli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defin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dentifika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rijed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“slijepu” zamjenu svakog pojavljivanja identifikatora zadatom vrijednošću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8137440" cy="29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CFA9-C0AC-409E-9834-7362C9CC55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rocesorska direkti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ziva se prije samog kompajlira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pir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mpletan sadržaj jednog fajla u drug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mogućava da se na jednostavan način učita interfejs klase u više fajlo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i oblici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#include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fajl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čitava korisnički definisan fajl sa tekućeg direktorij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mefajl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itava sistemski (predefinisani) fajl sa odgovarajuće lok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BF06-0F89-4DE0-B14B-BAB3A3CFB7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304920"/>
            <a:ext cx="727236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A1BA-9BD3-4255-8EC2-5A0FDAEE16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rekti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fdef, #ifndef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mogućavaju da se određeni dio koda isključi ili uključi u zavisnosti od toga da li je zadovoljen određeni usl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fdef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zvoljava kompajliranje dijela koda samo je definisana simbolička konstanta koja se javlja poslije ove direk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sto se koristi kod fajlova koji sadrže zaglavlje neke klase, kako bi se izbjeglo višestruko učivanje interfejs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48D3-680F-4EF8-AFFF-DAB2F8464D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9360"/>
            <a:ext cx="6767640" cy="305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6913800" cy="300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7599-FA59-4B44-8827-19365F3760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ifndef _COMPLEX_CLASS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define _COMPLEX_CLASS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AD29-8A6F-4D31-8333-C429B8423C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razliku od većine savremenih jezika (Java, C# itd.) jezik C++ podržava pokaziv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bajt u memoriji ima svoju adre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drese su redni brojev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 koji je učitan u memoriju zauzima jedan opseg ad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a varijabla, kao i svaka funkcija ima svoju adre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dresa neke promjenjive može se dobiti putem operatora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30A5-830E-4A5D-84E1-A8CAC1F2AD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4036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D88A-42B4-43F9-9436-F017212347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trakci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jedn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atributa i zajedn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ponašanja jednog skupa srodnih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sad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tke 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efinišu sta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(definišu ponašanj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ci koji su dio klase nazivaju s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ci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vi, ili atributi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koje su dio klase nazivaju s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člani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to se koristi naziv </a:t>
            </a:r>
            <a:r>
              <a:rPr b="0" i="1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ADD9-381F-4EC2-B053-F2C1C5715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e je deklarisati promjenljivu koja ne sadrži neku vrijednost već adre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ke varijable, tj. pokazivač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kazivačka varijabl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kl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e se navođenj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poslije naziva tip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t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ograničenja u pogledu tipa podatka, tj. može se deklarisati pokazivač na bilo koji t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c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no je 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ličita u odnosu n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mjenljiv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predstavlja objekat, do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Ptr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reba da sadrži adresu objekt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FA1E-4E2C-4B81-8D18-8C2BFF306C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NUL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568800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2F4C-9232-4494-938B-5612C905FB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5832360" cy="26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0695-F038-4A46-83EB-FF4AAACDA8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Comple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Ptr-&gt;setData(1.2, 0.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243640" cy="26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6D77-E11F-42E6-918D-909ECD63CF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reira novi objek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uzima potrebnu memoriju z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uvanje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at se čuva u dijelu memorije koji se naziv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aća  adresu novokreiranog obj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mogu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ćava da u vrijeme izvršavanja zauzimate memoriju po potreb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lobađa memoriju za objekat 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jekat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koji se oslobađa memorija mora prethodno biti kreiran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ktno (posredno)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istupanje atributim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ama preko pokazivač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BD6E-80DB-4BED-8804-CEAD1864D2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pitanju je izvedeni t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a na objeka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pućuje na objeka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lizak je pojmu pokazivač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većini slučajeva, realizovana je kao konstantni pokazivač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kazivač koji je jednom inicijalizovan i ne može se preusmjer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rajno upućuje na objeka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likom deklaracije referenca se mora inicijalizovati objetkom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ferenca je “čvrsto” vezana za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edstavlj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alias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ta, tj. njegovo drugo 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vaka operacija nad referencom je operacija nad objek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427B-A631-4A38-B462-EBC1375508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stup objektu preko reference je posredan isto kao i kod pokazivač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pak, ne zahtijeva se upotreba posebnog operatora (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već se koristi operator direktnog pristupa (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 se može preusmjeriti, a referenca ne mož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gu postoj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e na 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i na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osim po vrijednosti, argument se mogu prenositi i po referen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jčešće, reference se koriste u tu svrh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D289-388A-441F-A03D-FF0560D89B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&amp;c2 =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setData(3.5, 7.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590400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20F1-F4E9-42A2-8A0F-637B335A4B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axmin(int a, int b, int mx,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int&amp; m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lt;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x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n =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x =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n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x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n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xmin(3, 5, mx, m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mx " &lt;&lt; mx &lt;&lt; " mn " &lt;&lt; m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895640" cy="15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1C4A-74D9-4479-8EDB-FDBB4B42A1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Objekti i funkcije člani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objekat ima svoju kopiju atributa č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funkcije članice stvar nije tako jednostavn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 objekti koriste istu implementaciju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ogično, implementacija funkcije je ista za svaki objekat određ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at ne sadrži kopiju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adrži adresu fun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ogično pit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 osnovu čega funkcija “zna” koji objekat je pozvao njeno izvršavan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8E28-994D-47C2-9FF8-556CD0E6A7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a klasa ima sekcije koje određuju pravo pristupa članovima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o se odnosi i na podatke i na met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ncip enkapsul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kcija može biti označena k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privatnim članovicama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može im se pristupiti “spolj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idjivi su samo ostalim članicam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javnim članicam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ma ograničenja u pogledu pristu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zaštičenim članicama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idjivi su ostalim članicama klase, kao i članicama izvedenih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kcije mogu biti navedene u proizvoljnom redoslj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biti više sekcija sa isto oznak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66E7-DA92-45AF-8B72-CB21AF1298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64560" cy="64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6AA0-F700-4573-BAF4-5ADBE83CDD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tar svake funkci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postoji implicitni (ug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)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lni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 ovog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e "konstantni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klas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a je funkci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a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za funkcije članice iz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le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č this je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 je konstantan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j. nije dozvoljeno mijenjati vrijednost ovog pokazivač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= NULL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je validna nared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rži adresu objekta putem koga je metoda članica pozv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AAD8-E4FA-45DA-9C3A-E947B1FDC2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no se koristi se za prist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se i eksplicitno naves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prav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iveni argume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kat.f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e semantički ekvivalent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&amp;objek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35F3-4521-4954-A38D-F0229992744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ljedeće implementacije funkcija su ekvivalen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drugoj je pokaziva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eksplicitno nav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t &lt;&lt; "Re " &lt;&lt; </a:t>
            </a:r>
            <a:r>
              <a:rPr b="0" lang="sr-Latn-CS" sz="2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re &lt;&lt; " Im " &lt;&lt; </a:t>
            </a:r>
            <a:r>
              <a:rPr b="0" lang="sr-Latn-CS" sz="2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im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0E10-4DC0-4EF7-AE0D-ED7146CEC1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461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7C0D-B213-4FC8-85A5-8AB7FF85694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lasi je moguće definisati dvije funkcije članice koje imaju isto 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kve funkcije se nazivaju preklopljene funkcije (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Overloaded Function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ju da se razlikuju se po broju ili po tipu formalnih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je pozvana preklopljena funkcija, onda se na osnovu poklapanja stvarnih i formalnih argumenata određuje koja verzija funkcije će biti pozv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upak se radi u toku prevođe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koje se razlikuju samo po tipu rezultata ne mogu imati isto 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76A3-5173-4BE2-AEAD-F49BE7EC10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mplex::Print(int n, char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      cout &lt;&lt; c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endl &lt;&lt; "Re " &lt;&lt; re &lt;&lt; " Im " &lt;&lt; im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10, '*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67280" y="5264280"/>
            <a:ext cx="5076720" cy="15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17B2-D461-4DAB-A098-C28EA66134C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499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2904-8857-49F6-88DC-E6E2ED95CC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ijelo funkcije čuva se na jednom mjestu u memori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šteda prosto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kompajler naiđe na poziv funkcije, tada se generiše odgovarajuća asemblerska naredba (npr. CALL ili JM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kok” se na prvu naredbu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da poziva funkcije zahtijeva vrije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uva se stanje regist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varni argumenti se stavljaju na st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euzimanje povratne vrijednos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stauriranje stanja regist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 naročito dolazi do izražaja za kratke funkcije koje imaju nekoliko naredb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lazi do situacije da više vremena troši obrada poziva nego samo izvršavanje tijela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8E22-46C3-4F2D-BB1E-B05967FCF15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ski jezik C++ nudi mogućnost neposrednog ugrađivanja tijela funkcije u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kve funkcije se zovu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line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pred njihove deklaracije se navodi ključna rije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d prevodioca se zahtijeva da optimizuje pozive funkcija time što će umjesto poziva funkcije direktno u ko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i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gra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o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njeno tije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aj zahtjev prevodilac nije u obavezi da isp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emantika programa ostaje 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mehanizam treba pažljivo koristi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bjegavati za obimne fun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godno je za funkcije koje imaju par naredb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članice su podrazumijevano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lin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ako je njihova implementacija navedena u deklaraciji (interfejsu)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2231-EE62-4D62-9F99-D483F59A5B6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deklaracij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daci clan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ata(float r, float i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 = 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//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cout &lt;&lt; "Re " &lt;&lt; re &lt;&lt; " Im " &lt;&lt; im &lt;&lt; endl;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8FFE-492D-4E93-86CC-CE1087507F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604872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927C-3BD2-4FC7-96E3-9E58FABCE5A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Re(float re){this-&gt;re = r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2133-50A5-4E4A-9010-1814EFA276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Konstant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e funkcije mogu samo da čitaju stanje objekta ali ne i da mijenjaju njegovo st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gu da mijenjaju vrijednosti varijab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ju 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ktor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ktor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funkcije koje mogu da mijenjaju stanje objekta koristi se term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eklaraciju ovih funkcija koristi se ključna riječ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a zaglavlj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itanju je zapravo dobra programerska prak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je objekta se takođe ne može promijeniti ni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č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362F-7476-446E-B7E9-1747D927F75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Konstant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Re (float re) const {this-&gt;re = re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87138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C86E-0E87-4F6B-A83F-28A18224E53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Podrazumijevani argumen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ormalni argument može biti deklarisan tako da ima podrazumijevanu vrijed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njih, prilikom poziva funkcije, stvarni argumenti mogu biti izostavlje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varni argument ima podrazumijevanu vrijednost navedenu u deklar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u vrijednost mogu da imaju samo nekoliko posljednjih argumenata iz l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neki argument ima podrazumijevanu vrijednosti svi argmenti navedeni poslije njega u listi moraju imati podrazumijevanu vrijedno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a vrijednosti navodi se poslije deklaracije argumenta i to poslije simbol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2899-0876-48EF-9C4E-DD62A906215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Podrazumijevani argumen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Data(float r, float i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=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Re (float re) {this-&gt;re = re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2.setData(3.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2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5041800" cy="174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C4B9-399C-454A-8368-B3BF1851DDC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las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postoji metod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SetDa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oja je namijenjena inicijalizaciji č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 metoda treba biti pozvana odmah poslije kreiranja objek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tencijalini izvor grešaka jer ne postoje garancije da će ta metoda biti poz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treban je mehanizam koji će omogućiti da se inicijalizacija članica objekta vrši automatski, odmah poslije kreiranja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trukto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if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oda kla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defin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š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no stan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objek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 isto ime kao i kla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ma tip rezultata (čak ni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ože imati proizvoljan broj argumenata proizvoljnog ti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C7DD-2123-434E-8944-FE33C2AEE02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se ne poziva eksplicit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likom kreiranja obj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izvršavanja definicije objek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kreiranja putem operatora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Kada se stvarni argument klasnog tipa prenosi 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n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(formalni argument se inicijalizuje stvarn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tijela konstruktora ostalim članovima objekta se pristupa kao i kod drugih funkc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mogu bi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loplj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e ista pravila preklapanja kao i za ostal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, privatni ili zaštićeni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e ista pravila kao i za drug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k, najčešće konstruktori su jav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A828-4F99-4051-9BEE-60ADD96899A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::Point(float x, floa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-&gt;x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-&gt;y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oint::Pri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out &lt;&lt; "X=" &lt;&lt; x &lt;&lt; ",Y=" &lt;&lt; y 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947F-28AE-480C-84C7-2F72E143106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(1.0,1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2.0, 2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pr. deklaracij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(1.0,1.0,1.0)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ma smisla i prevodilac bi prijavio greš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postoji odgovarajući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105440" cy="14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F79E-AE48-4F79-A573-77D67C07B84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, c2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kreiranje objekata c1 i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setData(4.5, 2.3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ziv 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setData(1.2, 0.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ziv metoda za prikaz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5373720"/>
            <a:ext cx="867564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A2A3-86BD-47DE-B0DA-CE8C5C53F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(float x)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//inline konstru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-&gt;x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-&gt;y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1(1.0,1.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pPtr = new Point(2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75280" y="4998960"/>
            <a:ext cx="3168720" cy="18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464C-8477-4029-9C12-8D0E8CCCD2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razlikovati inicijalizaciju od dodj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rethodnom primjeru podaci članovi su prostog tipa, pa dodjela i inicijalizacija imaju isto značen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opštem slučaju, za proizvoljan tip T to ne mora da važ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avlja se pitanje kako inicijalizovati podatke članove u slučaju kad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je član objekat klase za koju 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azumevani konstruk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j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ada je čla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94E6-D642-452E-B766-1A70CFA5B22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&amp;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onst float 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. float 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7EEF-806D-4CF4-AEE0-7820C50B672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ršavanja konstruktora pozivaju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s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om pojavljivanja u klas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icijalizatori (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umenti ovih po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gu da se naved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glavlja definicij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 deklaracije) konstruktora, iza znak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zv. inicijalizatori člano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jeni su zarez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 se koristiti argmenti konstruktora, kao i kon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eljno je da se navedu u redosljedu u kojem su deklarisani u kl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0B6B-8697-4D88-9632-70710BD7CD6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, float r) : p(x,y), r(r),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32E7-39C3-4C60-A68E-EA4FFEB59F8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::Complex(float r, float i) : re(r), im(i){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9877-0993-4A53-94DB-CF2048A49B7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i konstruk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formal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svi argumenti imaju podrazumijevanu vrij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bez stvar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građeni podrazumijevani konstruk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formalnih argumen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a prazno tij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oj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o ako klasa nije definisala ni jedan kon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me se obezbjeđuje da svaka klasa ima makar jedan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4548-C07A-4549-B477-A1162F4A22C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//poziv ugrađenog podrazumijevanog konstruk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7BF5-51E2-4C00-97EA-98A322537DF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//Greska. Ugrađeni podrazumijevani konstruktor vise ne posto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BE3C-2B46-44A8-8806-55B59FE03DC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 : x(x), y(y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) : x(x), y(0.0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) : x(0.0), y(0.0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//Val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507C-45E1-40A3-A244-934F42411D0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 pojava (instanca) klase naziva se objek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481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25FE-A40F-4E1C-BB7A-D44E398FF6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jedan objekat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nicijalizuje drugim objektom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ste te klase, onda će se izvršiti prosta inicijalizacija članova objekt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dgovarajućim članovima objekt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vo može biti problematično ako je pokazivač član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lazi do tzv. plitkog dodjeljiva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pokazivač ukazuje na objekat koji je kreiran dinamički, onda će oba objekta imati pokazivač na taj isti objekat koji je kreiran dinamič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5507-BF74-4873-A857-F85F2B93B5B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(float x = 0.0, float y = 0.0) : x(x), y(y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BC0C-55EA-44DB-AD79-39E2044E981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t float PI;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, float r) : r(r),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 = new Point(x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* getP(){return p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AE63-F402-4766-B746-5F4BFF0B259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1(2.0, 3.0, 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poziva se ugradjeni 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2 = c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getP()-&gt;setX(9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94200" y="5054760"/>
            <a:ext cx="42498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3B39-000A-44A4-B59E-7D5D1911B5E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455616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C744-8ECF-468B-ADE9-7929A11512A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tpuna kontrola nad inicijalizacijom jednog objekta drugim može se ostvariti definisanjem tzv. konstruktora kop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 poziv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objekat inicijalizuje objektom iste klase, a to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inicijalizacije objekta (pom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znak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sa zagrad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prenosa argumenata u funkciju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(kreira se lokalni objek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v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a vrednosti iz funkcije (kreira se privremeni objek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 ima argument tip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X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 XX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datno, može imati još argmenata, ali oni moraju imati definisanu podrazumijevanu vrij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ne s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ati formalni argument tip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svoje 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eskonačna rekur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400F-72A5-4F1D-B6AD-B7342CA8BFF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(Circle &amp;x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::Circle(Circle &amp;x) : PI(3.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ut &lt;&lt; "konstruktor kopij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r = x.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 = new 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-&gt;setX(x.p-&gt;getX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-&gt;setY(x.p-&gt;getY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8A6A-4DCE-4154-BCD9-D48A1EE74A3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 c1(2.0, 3.0, 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poziva 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edefinisan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onstruktor kop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 c2 = c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2.getP()-&gt;setX(9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27640" y="5184720"/>
            <a:ext cx="381636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09DC-0105-4179-9141-C2481B76705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58784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DAB5-FDD4-4898-9A38-430041D5CA6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nička konverzija (engl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user-defined conversio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ma konstruktor koji se može pozvati sa jednim stvarnim argumentom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ovim konstruktorom se definiše korisnička konverzija iz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u tip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p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može biti ugrađni ili korisnički definisan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plicitno se koristi tamo gdje je potreb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 inicijalizaciji objekta tip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objektom tip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D588-3F05-496B-A28A-C1E0833A546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i klase definišu (deklarišu) se na uobičajen način, kao i promjenjive osnovih tip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ziv klase se koristi kao ime tipa, 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mplex C1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vaki objekat klase formira se poseban kompl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h nestat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tribu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objekat ima sopstvenu memoriju i u toj memoriji se čuvaju vrijednosti atributa (promjenjiv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am statičkih atributa biće detaljnije opisani u ostatku lek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emoriji objekta se čuvaju i adrese funkcija čla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DD9D-72F5-438A-8133-8A57114328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1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ozvoljeno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. I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o ka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da je napisa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Complex c1(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300720" y="5391000"/>
            <a:ext cx="2843280" cy="14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6C1C-D9A5-460B-B61C-24DA12B009B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vremeni objek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ezime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er nema kontrolu nad nj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otpunosti pod kontrolom prevo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se na nekom mjestu uvodi privremeni objekat koji ima konstruktor, onda se obavezno i poziva taj konstruk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lično važi i za destrukt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vodilac određuje kada će neki privremeni objekat biti kreiran, a kada uniš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e se optimiza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emantika programa ostaje saču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A087-6D7F-4C21-9A47-534A2820C5A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add(Complex c1, Complex c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mplex(c1.re + c2.re, c1.im + c2.i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 = add(Complex(1.0,2.0), Complex(4.5, 6.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59280" y="907920"/>
            <a:ext cx="3384720" cy="13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B097-87CF-4823-AFBE-21379710C69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kto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pecifična funkcija 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se koja se implicitno poziva pri uništavanju objekta, tj. na kraju životnog vije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os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 ime kao klasa,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 zna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red i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 tip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ezultat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e 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mati argum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može imati samo jedan destruk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destruktora članovima se pristupa kao i u okviru drugih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oziva se i 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uništavanju dinam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objekta po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perator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struktori se dosta koris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objekat treba da dealocira memoriju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u je konstruktor aloci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E1CD-DD53-43F0-A493-BF6EFC9C95C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{{cout &lt;&lt; "Point : konstruktor" &lt;&lt; endl;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{cout &lt;&lt; "Point : konstruktor kopije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{cout &lt;&lt; "Point : destruktor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49A8-452F-4F7A-9073-5D278AA8AAA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ircle(Circle &amp;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ircle(float x, float y, float r) : r(r), PI(3.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Circle : konstruktor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= new Point(x,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getP(){return p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ircle::~Circl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ut &lt;&lt; "Circle : destructor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elete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DA4C-C22E-44E5-9F7B-B13FC583F4C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* c1 = new Circle(2.0, 3.0, 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lete 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92360" y="4851360"/>
            <a:ext cx="6551640" cy="20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CD33-9A7C-42F9-B377-B9C955C2C9E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 sada argumenti funkcija su bili prostog tipa 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t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rgument funkcije može da bude i objek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ograničenja, tj. može biti objekat bilo koj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kođe, argument funkcije može da pokazivač, kao i referen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gument funkcije je lokalni objek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Životni vijek objekta ograničen je trajanjem izvršavanja funk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konstruktor kop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pira se objekat koji se stvarni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slučaju da konstruktor kopije nije definisan od strane korisnika, poziva se podrazumijevani 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E0D4-B844-4157-8534-52B2BB422FE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func1(Poin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setX(9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(1.0, 2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464000" y="4557600"/>
            <a:ext cx="4680000" cy="23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843D-D2D9-455A-8C04-C40C36E4305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769080" cy="460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4317-E3DF-4864-B572-D98B47DCD78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264360" cy="54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BB9E-F002-4D19-8C57-ABAA5CA2D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func1(Point&amp;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setX(9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(1.0, 2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95640" y="4979880"/>
            <a:ext cx="5148360" cy="18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DE1D-DA08-4CDF-9356-4462792CD4B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29440" cy="40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BDB3-04F5-4603-8B5A-9A5358E4F7C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ki objekat klas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jedu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eban komplet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tribu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k, moguće je deklarisati atribute koji su zajednički za sve objek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ti koji su zajednički za sve objekte nazivaju se statičkim atributima, tj. statičkim podacima član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išu se navođem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 samo jedan pri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k stat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 atribu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emorij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 kla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odat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ve objekt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2883-2E37-4405-84ED-64858991AA7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int coun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float x = 0.0, float y = 0.0) : x(x), y(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Point&amp; p) : x(p.x), y(p.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kopije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~Po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destruktor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D2F6-5261-4D92-B91D-A48225D2DC2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70580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7DCA-A32D-449E-8DD7-2552BC70F9E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pristup statičkom atributu iz bilo kojeg objekta znači i pristup istoj oblasti u memori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 atributi postoje tokom cijelog izvršavanja pro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zavisi od postojanja bilo kojeg objekt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oji i kada ne postoji ni jedan objekat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statičkog člana nije i njegova defini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 se definisati posebnom deklaracij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an deklaracij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an deklaracije funk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9B7A-E37A-48C7-A00D-88ADB383E78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m atributima može se pristupiti bez navođenja konkretnog objek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e imena atributna navodi 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im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statički atribut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onda mu se pristupa 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oint::c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m atributima može se pristupiti i preko operator pristupa (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aže ista pravila kao i za nestatičke član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ola pristupa važi kao i za ostale član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 kada svi primjerci jedne klase dijele zajedničku informac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obina klase, a ne konkretnog atribu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641B-CF7B-4444-A2CF-42B6DB57D8A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1 = new Point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1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2 = new Point(3.0, 4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2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3 = new Point(5.0, 6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3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10CA-37C3-4F3D-9BF5-B697F3D4C75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21440" cy="34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3A51-C787-4562-8A53-D05E4DD3415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Statičke (zajedničk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tode, kao i atributi, mogu da budu deklarisane kao statičke (zajedničke) za cijelu kl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zivaju se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statičkim metodama članic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vodi se ključna rije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spred deklaracije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atičke metode ne pripadaju ni jednom objek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že im se pristupiti iako nije kreiran nijedan objekt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posjeduju pokaziva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mogu pristupi nestatičkim atributima klase kojoj pripad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stup statičkim metodama je sličan kao i pristup statičkim atribu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vodi se ime klase i operator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ispred imena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oint::getCou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se pristupiti i preko operator pristupa 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aže ista pravila kao i za drug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D975-834B-40CB-93AA-023B9DE8FC5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9T11:51:43Z</dcterms:modified>
  <cp:revision>763</cp:revision>
  <dc:subject/>
  <dc:title>Chapter 1 – Introduction to Computers and C++ Programming</dc:title>
</cp:coreProperties>
</file>